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2044-8E2E-4E4D-97FB-822977E9D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2AF4-0C50-411C-84BE-11423C6FE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053A-EEDE-4877-BAD4-ACBBFCA83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CA4E-572B-406D-8BE4-9509A5F52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D45D-84D4-43B6-B30E-975009F1C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E222-3DEC-451E-8580-5FC686DA6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4BD0-C3F3-48F9-8CAF-1556D7BD1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C327-6DDC-4835-9BE7-6AAF976D5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9855-BA38-4D52-B2C0-05EECF44D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164A-2FFC-4A05-9588-7ED53F69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CC8A-34A5-46F1-8FAB-872347B22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4D7E-0703-4157-93A2-7A6A05F7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0E14E-BF2F-4E4A-A9FE-5C3C52F6A5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476280"/>
            <a:ext cx="244764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692280"/>
            <a:ext cx="2016360" cy="642600"/>
          </a:xfrm>
          <a:prstGeom prst="rect">
            <a:avLst/>
          </a:prstGeom>
          <a:solidFill>
            <a:srgbClr val="c9f3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・名前　　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(char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型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・成績　　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(int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型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42920" y="260280"/>
            <a:ext cx="865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生徒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1844640"/>
            <a:ext cx="244764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2060640"/>
            <a:ext cx="2016000" cy="642600"/>
          </a:xfrm>
          <a:prstGeom prst="rect">
            <a:avLst/>
          </a:prstGeom>
          <a:solidFill>
            <a:srgbClr val="c9f3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・名前　　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(char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型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・成績　　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(int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型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1628640"/>
            <a:ext cx="865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生徒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6T23:50:58Z</dcterms:created>
  <dc:creator>まー</dc:creator>
  <dc:description/>
  <dc:language>en-US</dc:language>
  <cp:lastModifiedBy>まー</cp:lastModifiedBy>
  <dcterms:modified xsi:type="dcterms:W3CDTF">2006-03-16T23:52:11Z</dcterms:modified>
  <cp:revision>2</cp:revision>
  <dc:subject/>
  <dc:title>スライド 1</dc:title>
</cp:coreProperties>
</file>