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F35-9C80-48F1-AB94-7D33D45B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021-01C9-451F-85FF-EE57D7B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014-B91C-4331-A168-23C7B20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868-33CD-47B0-89CE-7D5A9CC9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2B4-7B38-4FEA-A630-2E249EF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ECC-4DD9-442C-BC79-10E1DED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074-6461-4846-BA90-CBFE165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521-2E7F-4F47-A560-910157F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06E-FEAC-4EF0-A170-70F62E9F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4FE-CFE3-4C35-BF3A-231520F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F9A-BFA0-4359-BF11-B8648BB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F57-F61C-48D9-97F5-7AF105EE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612-04D9-45CF-9AE4-C1327EE0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3640" y="115920"/>
            <a:ext cx="180720" cy="27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0360" y="11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366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機械語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0100110011.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44720" y="836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本語、英語‥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○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表示せ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863280" y="331920"/>
            <a:ext cx="1079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34920" y="331920"/>
            <a:ext cx="1081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11280" y="26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4920" y="26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6360" y="4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8000" y="4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4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560" y="476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720" y="47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47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53640" y="981000"/>
            <a:ext cx="72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4" idx="2"/>
            <a:endCxn id="55" idx="3"/>
          </p:cNvCxnSpPr>
          <p:nvPr/>
        </p:nvCxnSpPr>
        <p:spPr>
          <a:xfrm rot="5400000">
            <a:off x="1922400" y="995400"/>
            <a:ext cx="358200" cy="837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43" idx="2"/>
            <a:endCxn id="55" idx="1"/>
          </p:cNvCxnSpPr>
          <p:nvPr/>
        </p:nvCxnSpPr>
        <p:spPr>
          <a:xfrm flipH="1" rot="16200000">
            <a:off x="567720" y="1207080"/>
            <a:ext cx="358200" cy="414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6:14:20Z</dcterms:created>
  <dc:creator>まー</dc:creator>
  <dc:description/>
  <dc:language>en-US</dc:language>
  <cp:lastModifiedBy>まー</cp:lastModifiedBy>
  <dcterms:modified xsi:type="dcterms:W3CDTF">2006-05-03T06:20:20Z</dcterms:modified>
  <cp:revision>2</cp:revision>
  <dc:subject/>
  <dc:title>スライド 1</dc:title>
</cp:coreProperties>
</file>