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D7D-A2FF-4884-B172-CC9D3C79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CA6-535F-4CA0-8EE5-725D3232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4B4-191B-4DC5-9422-87B7A53A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BBA-498E-4FCF-89CC-D19829CC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793-4859-443C-847A-776A90E3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80C-8976-41AB-95B3-7833DA0A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E52-1AEF-44D2-B675-C919EFAA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284-D619-4B34-BB6D-E0FEF503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0DF5-6F1E-4BA5-BCE7-AA0A1A68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79B-0B89-44EA-8985-096371DF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0CC-8684-49E3-8298-1599ADC4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318-6575-4590-BCC2-76D843C5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A431-7031-4A1F-8125-F5E5C2F3F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0560" y="2781360"/>
            <a:ext cx="2665440" cy="2300040"/>
          </a:xfrm>
          <a:prstGeom prst="rect">
            <a:avLst/>
          </a:prstGeom>
          <a:solidFill>
            <a:srgbClr val="f1f8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ケース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115920"/>
            <a:ext cx="2665440" cy="2300040"/>
          </a:xfrm>
          <a:prstGeom prst="rect">
            <a:avLst/>
          </a:prstGeom>
          <a:solidFill>
            <a:srgbClr val="f1f8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ケース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2565360"/>
            <a:ext cx="2449800" cy="368280"/>
          </a:xfrm>
          <a:prstGeom prst="rect">
            <a:avLst/>
          </a:prstGeom>
          <a:solidFill>
            <a:srgbClr val="fb7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intf(“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ハローワード”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3789360"/>
            <a:ext cx="2449440" cy="368280"/>
          </a:xfrm>
          <a:prstGeom prst="rect">
            <a:avLst/>
          </a:prstGeom>
          <a:solidFill>
            <a:srgbClr val="fb7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3213000"/>
            <a:ext cx="2665440" cy="2300040"/>
          </a:xfrm>
          <a:prstGeom prst="rect">
            <a:avLst/>
          </a:prstGeom>
          <a:solidFill>
            <a:srgbClr val="f1f8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t main(){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intf(“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ハローワード”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turn 0;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4221000"/>
            <a:ext cx="2449440" cy="368280"/>
          </a:xfrm>
          <a:prstGeom prst="rect">
            <a:avLst/>
          </a:prstGeom>
          <a:solidFill>
            <a:srgbClr val="fb7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intf(“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ハローワード”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15920"/>
            <a:ext cx="2665440" cy="2300040"/>
          </a:xfrm>
          <a:prstGeom prst="rect">
            <a:avLst/>
          </a:prstGeom>
          <a:solidFill>
            <a:srgbClr val="f1f8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t main(){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intf(“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ハローワード”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turn 0;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115920"/>
            <a:ext cx="2449800" cy="368280"/>
          </a:xfrm>
          <a:prstGeom prst="rect">
            <a:avLst/>
          </a:prstGeom>
          <a:solidFill>
            <a:srgbClr val="fb7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3:10:15Z</dcterms:created>
  <dc:creator>まー</dc:creator>
  <dc:description/>
  <dc:language>en-US</dc:language>
  <cp:lastModifiedBy>まー</cp:lastModifiedBy>
  <dcterms:modified xsi:type="dcterms:W3CDTF">2006-04-03T13:10:23Z</dcterms:modified>
  <cp:revision>1</cp:revision>
  <dc:subject/>
  <dc:title>スライド 1</dc:title>
</cp:coreProperties>
</file>