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40A-3B8A-4F0D-947E-2D07F7FA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17F-22E6-473C-A278-4960C45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9F8-486A-42B9-B123-2E1EAABE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3CA-C965-4394-8028-218A9801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492-5E96-4529-956A-7827717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3C6-BE41-4A28-BC0F-0D28B14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FCD-9A8A-45CF-A28F-CBDC4062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54A-F570-445C-99A2-7E6A8188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886-0FAB-43FE-9E97-BCA4786F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81E-BFFA-4155-A02A-4B94FCD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E3C-2598-4578-A1CE-FA49F36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C40-A736-4E7F-937E-FFC703A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116-77D2-4CDB-A658-3E06ABBD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4427640" cy="28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22560" y="909720"/>
            <a:ext cx="1297080" cy="19429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909720"/>
            <a:ext cx="1297080" cy="19429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0200" y="909720"/>
            <a:ext cx="1297080" cy="194292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1125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3280" y="155592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280" y="199080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242244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1125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8560" y="155592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8560" y="199080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8560" y="242244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95640" y="1125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95640" y="155592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5640" y="199080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95640" y="242244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4920" y="693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0560" y="693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56000" y="693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4560" y="217440"/>
            <a:ext cx="79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3645000"/>
            <a:ext cx="1297080" cy="19429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3645000"/>
            <a:ext cx="1297080" cy="19429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645000"/>
            <a:ext cx="1296720" cy="194292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05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9084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472608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15772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429084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472608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515772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5080" y="429084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5080" y="472608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515772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342900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342900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5440" y="342900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29264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581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15772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86900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15448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15628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4005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429084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72608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515772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429264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4581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515772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486900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3640" y="515448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515628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4005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429084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4726080"/>
            <a:ext cx="1150920" cy="307080"/>
          </a:xfrm>
          <a:prstGeom prst="rect">
            <a:avLst/>
          </a:prstGeom>
          <a:solidFill>
            <a:srgbClr val="ca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5157720"/>
            <a:ext cx="1150920" cy="307080"/>
          </a:xfrm>
          <a:prstGeom prst="rect">
            <a:avLst/>
          </a:prstGeom>
          <a:solidFill>
            <a:srgbClr val="da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429264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58136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515772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486900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154480"/>
            <a:ext cx="1150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156280"/>
            <a:ext cx="1150920" cy="307080"/>
          </a:xfrm>
          <a:prstGeom prst="rect">
            <a:avLst/>
          </a:prstGeom>
          <a:solidFill>
            <a:srgbClr val="f6fa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91440" y="76500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構造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1240" y="371628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8:07:08Z</dcterms:created>
  <dc:creator>まー</dc:creator>
  <dc:description/>
  <dc:language>en-US</dc:language>
  <cp:lastModifiedBy>まー</cp:lastModifiedBy>
  <dcterms:modified xsi:type="dcterms:W3CDTF">2006-03-16T18:08:42Z</dcterms:modified>
  <cp:revision>3</cp:revision>
  <dc:subject/>
  <dc:title>スライド 1</dc:title>
</cp:coreProperties>
</file>